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F9B-FA55-40E0-B2E8-E8BE6D3C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B584-F5B8-49C6-813C-ED69CA6F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916-9B88-4822-B8AB-67601BF8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A7C-BCF4-4DEC-B697-296860AD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068-98C8-4702-8993-4188FF60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FA6-7579-4375-9D6F-4BECFE4A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BB4-4FD8-44CD-86E7-15882C1E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6A95-5A94-41FC-863F-D59222F4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430-13BF-41F7-A7CB-5E7CC499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A67A-8C5C-4750-B1CC-889E0FCB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2E0-FB38-447B-A045-3A63622C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839-4129-49E9-8FAB-F10D3110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5EE4-E000-4F7F-B324-67EE8B1A6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image" Target="../media/image9.pct"/><Relationship Id="rId5" Type="http://schemas.openxmlformats.org/officeDocument/2006/relationships/image" Target="../media/image10.pct"/><Relationship Id="rId6" Type="http://schemas.openxmlformats.org/officeDocument/2006/relationships/image" Target="../media/image11.pct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Edwardian Script ITC"/>
              </a:rPr>
              <a:t>The Romantic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Edwardian Script ITC"/>
              </a:rPr>
              <a:t>Time Perio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d by Renee Sak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The Romantic Er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pple 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Chancery"/>
              </a:rPr>
              <a:t>1850 - 1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pple 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Chancery"/>
              </a:rPr>
              <a:t>Emo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pple 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Chancery"/>
              </a:rPr>
              <a:t>Change from balance /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24080" y="4102200"/>
            <a:ext cx="2133720" cy="275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184464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705720" y="1523880"/>
            <a:ext cx="2057400" cy="2565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248520" y="4051440"/>
            <a:ext cx="23144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ple Chancery"/>
              </a:rPr>
              <a:t>Romantic Compo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etho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g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chmanin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kofie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chaikovsk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z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238880" y="1828800"/>
            <a:ext cx="1320840" cy="1422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1600200"/>
            <a:ext cx="1168200" cy="158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1422360" cy="1473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952880" y="3581280"/>
            <a:ext cx="1168560" cy="1625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705720" y="3733920"/>
            <a:ext cx="1269720" cy="1904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505320" y="4876920"/>
            <a:ext cx="14223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ple Chancery"/>
              </a:rPr>
              <a:t>What made it differen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gger the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r Orchest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er Pi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vot Ch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o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ple Chancery"/>
              </a:rPr>
              <a:t>Common T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est in the Super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2085840" cy="2450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3175200" cy="238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666880" y="3886200"/>
            <a:ext cx="3429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ple Chancery"/>
              </a:rPr>
              <a:t>WOMEN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a Schu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19 - 18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1538280" cy="1904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3124080"/>
            <a:ext cx="1703160" cy="19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10320" y="121932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00400" y="3657600"/>
            <a:ext cx="26557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ple Chancery"/>
              </a:rPr>
              <a:t>Making a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ning 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ymaking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1638360" cy="1650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86200" y="3200400"/>
            <a:ext cx="1612800" cy="1587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190476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5:05:53Z</dcterms:created>
  <dc:creator>Middle School</dc:creator>
  <dc:description/>
  <dc:language>en-US</dc:language>
  <cp:lastModifiedBy>Middle School</cp:lastModifiedBy>
  <dcterms:modified xsi:type="dcterms:W3CDTF">2007-07-25T15:33:50Z</dcterms:modified>
  <cp:revision>3</cp:revision>
  <dc:subject/>
  <dc:title>The Romantic  Time Period</dc:title>
</cp:coreProperties>
</file>